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673-15E2-46C0-B6B7-71F2525C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F48-180D-4314-A4AA-BDF3FFC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3A9-BBA9-4BF6-A9C5-3E5D2769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E4F-ACA9-4304-9B8F-BF0695B7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0DB-3336-477A-AC1F-4B2EF6E7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2BC-A410-4374-9145-A4482CC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E1F-8B68-4B56-9492-B66B617D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5EF-43B4-457F-B16C-6B79F479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037-3E62-4D8C-B010-3993563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BDE-D4BF-41AA-91BB-0CF68B4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A2E-A771-4268-83F9-597C02E3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347-008C-4C6A-A0EC-0B855DC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478-E735-4DC3-BF4D-A6A1B2D75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itchenbazaar.fr/images/produits/mast2040_zoom__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Newtext Rg BT"/>
              </a:rPr>
              <a:t>R.T.S. gaming club &amp; battle-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elcome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03840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07648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88000" y="3789360"/>
            <a:ext cx="296208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Best Painted Army 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te throughout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ery player votes for his 3 favorite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st painted award for the first three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3436920"/>
            <a:ext cx="832500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Hobby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udges will come and assess your army during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 not hesitate to insist on fine points to convince the ju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51000" y="4011480"/>
            <a:ext cx="8324640" cy="49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Your player f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lists of all your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 exerpt from the Ru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cenarios and SR2012 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Tourna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tag for displaying your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4653000"/>
            <a:ext cx="832464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gree on the layout and effect of terrai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 can replace the terrain before the game if both players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assination is a victory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 do not lose when your player clock reaches zero (« loveclock 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d the victory conditions carefully, especially tie br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Measur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eneral clock starts when everyone has reached his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eneral time includes list choice, deployment and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h20 for 50 point games (60 min./p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h45 for 35 point games (45 min./p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 never play turns &lt; 3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Double c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-674640"/>
            <a:ext cx="2695680" cy="30384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ng press on T1: the T1 time b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t the 1st player time with + an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ss T1 again: the time stops bl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ame with T2 for the second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game, press T1 to start/stop the first player’s clock. Press T2 to start/stop the second player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700280"/>
            <a:ext cx="832500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At the end of th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unt your Tournament Points, Control Points and the army points you destroyed in your opponent’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rite everything down on your Tourna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In kind memory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http://www.igorzoroastre.com/images/lobster.jpg"/>
          <p:cNvPicPr/>
          <p:nvPr/>
        </p:nvPicPr>
        <p:blipFill>
          <a:blip r:embed="rId5"/>
          <a:stretch/>
        </p:blipFill>
        <p:spPr>
          <a:xfrm>
            <a:off x="3203640" y="1557360"/>
            <a:ext cx="2771640" cy="3276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46040" y="495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Ferdi « Lobster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…</a:t>
            </a: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and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asure your distances as precisely as possible (no ruler b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’t take things too ser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joy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ave a good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The 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 available to our club for free s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852640"/>
            <a:ext cx="6400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no alcohol on the pre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’t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’t « explore » beyond the gaming area, the eating areas and the toi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KEEP THE TOILETS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Food&amp;dr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erything is availabl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lf-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re’s a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ffee machi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n the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resh ca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n the f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t cheese-and-ham sandwiches (« croques ») and hotdogs for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e’ll be making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waff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roughout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KEEP THE AREA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2276640"/>
            <a:ext cx="832500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chedule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71120"/>
            <a:ext cx="8713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30 Breakfast &amp;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00-12:20 First 50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20-14:00: Lunch break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my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00-16:40 Second 50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7:10-19:30 Third 50-point ga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chedule for Su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:30 Breakfast &amp;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0-10:45 First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0-12:55 Second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55-13:50 Lunch break and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50-15:35 Third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:15-17:00 Award ceremony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2860560"/>
            <a:ext cx="8325000" cy="49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Army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lunch break today, we suggest you display your armies on the table you just pl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23:05:33Z</dcterms:created>
  <dc:creator>Igor Kazmierski</dc:creator>
  <dc:description/>
  <dc:language>en-US</dc:language>
  <cp:lastModifiedBy>Igor Kazmierski</cp:lastModifiedBy>
  <dcterms:modified xsi:type="dcterms:W3CDTF">2012-05-26T07:24:19Z</dcterms:modified>
  <cp:revision>18</cp:revision>
  <dc:subject/>
  <dc:title>The Venue</dc:title>
</cp:coreProperties>
</file>