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F63-055A-400F-BECD-25D48B88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77E-F1B0-40ED-967F-74EF93E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109-D11A-44AE-8729-AE661CD0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DA7-EACF-4664-A65A-2836C577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D79-8569-4BEE-A70A-DEE77665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B2E-84C7-421B-B973-6131FD4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19F-8070-4004-8DB6-ABA3462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80D-F53F-49C8-B6E9-B8E5B8E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3E5-85C2-453A-B47A-C257107F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05D-3666-427B-A7F4-78E19DA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7B9-3C68-41A1-8E81-339E19A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E49-45E0-4EF3-865C-49B91E4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CDE6-F7AA-4237-925D-BCE9BB7EF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Newtext Rg BT"/>
              </a:rPr>
              <a:t>R.T.S. gaming club &amp; battle-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lcome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038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07648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3789360"/>
            <a:ext cx="296208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chedule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:30 Breakfast &amp;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0-10:45 First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0-12:55 Secon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55-13:50 Lunch break and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50-15:35 Thir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:15-17:00 Award ceremony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t the end of the second game, short 5-minute break the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ut out of sight all of your gam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3:05:33Z</dcterms:created>
  <dc:creator>Igor Kazmierski</dc:creator>
  <dc:description/>
  <dc:language>en-US</dc:language>
  <cp:lastModifiedBy>Igor Kazmierski</cp:lastModifiedBy>
  <dcterms:modified xsi:type="dcterms:W3CDTF">2012-05-27T14:42:32Z</dcterms:modified>
  <cp:revision>20</cp:revision>
  <dc:subject/>
  <dc:title>The Venue</dc:title>
</cp:coreProperties>
</file>