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11B-580E-4E42-B8E2-9D5F0789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37E-11FF-4359-A7FE-3C0302F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500-5913-4691-94E3-14143A3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420-ED13-40F6-8412-A4086435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93C-F966-4746-B11D-7FCA221A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A06-68C8-40CA-B768-FC009F22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1D4-1F84-4275-BC2A-02BBD9E1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BE2-005B-4241-870A-83934183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3E4-2ED5-459C-AC4A-90D29C93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4C8-D981-4D8B-B416-A9AEA2A8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94E-9E3B-4BFE-A731-3A2F7B41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206-5C5B-417F-9572-0718A45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CF8-0C11-4A8A-9789-189DFA3B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pecial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03840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07648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88000" y="3789360"/>
            <a:ext cx="296208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pecial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RTS gaming club, esp. Fred, Jérôme, Jean-François, Fredrich, Fran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r foreign g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 of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Nex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July 7/8: national tournament in Besanç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ugust 4/5: national tournament in Lag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ugust 25/26: international tournament in Lyon (SR, 50 pts, Divide&amp;Conquer(3), Hardcore Painting, Chess Cloc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Las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here’s food and drinks left so help yourself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here are some lost things on the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 is looking for a plastic AO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Best Painted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5000" y="6330960"/>
            <a:ext cx="331560" cy="4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0800" y="6408720"/>
            <a:ext cx="636480" cy="29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645336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374920" y="635328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rd: Ulyss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6040" y="232092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nd: Star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6040" y="306864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: Lucifel8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3:35:30Z</dcterms:created>
  <dc:creator>Igor Kazmierski</dc:creator>
  <dc:description/>
  <dc:language>en-US</dc:language>
  <cp:lastModifiedBy>Igor Kazmierski</cp:lastModifiedBy>
  <dcterms:modified xsi:type="dcterms:W3CDTF">2012-05-27T19:08:55Z</dcterms:modified>
  <cp:revision>14</cp:revision>
  <dc:subject/>
  <dc:title>Tier 4 (32-25)</dc:title>
</cp:coreProperties>
</file>