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D6F-0E55-45FE-BA43-64B11F9E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B99-5BA6-4C60-9A3A-4C96C40F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F08-56F6-44C2-AA4B-A688F985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C7A-385A-4276-9240-3F397836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073-0227-46DA-BCF6-0D3CB5E6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0D1-6368-417E-ABBA-26996A28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A99-A922-4E7A-A99C-11B729BA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4D9-7B59-4D71-BFF7-7DBBDEBB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1C3-5331-4860-8DBB-01DC46BF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81E-090F-43A4-91CB-2ACA0DEE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27A-9B29-4D95-A768-C66E2D62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30C-729B-457B-9880-FDA71B73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CBBA-FF4F-4D22-8B22-A0204E430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br>
              <a:rPr sz="6000"/>
            </a:br>
            <a:r>
              <a:rPr b="1" lang="en-US" sz="2000" spc="-1" strike="noStrike">
                <a:solidFill>
                  <a:srgbClr val="000000"/>
                </a:solidFill>
                <a:latin typeface="Newtext Rg BT"/>
              </a:rPr>
              <a:t>R.T.S. gaming club &amp; battle-grou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elcome 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88000" y="3860640"/>
            <a:ext cx="3960720" cy="96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Army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n lunch break today, we suggest you display your armies on the table you just pla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Best Painted Army V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te throughout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very player votes for his 3 favorite ar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st painted award for the first three ar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3436920"/>
            <a:ext cx="8325000" cy="496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he Welcom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nu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edule of the week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y display &amp; best painted army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bby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play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wtext Rg BT"/>
              </a:rPr>
              <a:t>Hobby g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udges will come and assess your army during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f you need to focus on your game just say so and the judge will come back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 not hesitate to insist on fine points to convince the ju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51000" y="4011480"/>
            <a:ext cx="8324640" cy="497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he Welcom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nu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edule of the week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y display &amp; best painted army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bby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play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Your player f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lists of all your op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 exerpt from the Rul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scenarios and SR2013 glo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Tournament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tag for displaying your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4653000"/>
            <a:ext cx="8324640" cy="496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he Welcom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nu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edule of the week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y display &amp; best painted army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bby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play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wtext Rg BT"/>
              </a:rPr>
              <a:t>Ter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terrain is fix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verything is specified on the terrain sheet next to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lace scenario elements according to the Least Disturbance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Remi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ath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ad the victory conditions carefully, especially tie bre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member kill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Measur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eneral clock starts when everyone has reached his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eneral time includes list/specialist  choices, deployment and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ployment is taken from your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h25 for 50 point games (68 min./play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h50 for 35 point games (50 min./play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In kind memory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http://www.igorzoroastre.com/images/lobster.jpg"/>
          <p:cNvPicPr/>
          <p:nvPr/>
        </p:nvPicPr>
        <p:blipFill>
          <a:blip r:embed="rId3"/>
          <a:stretch/>
        </p:blipFill>
        <p:spPr>
          <a:xfrm>
            <a:off x="3203640" y="1557360"/>
            <a:ext cx="2771640" cy="32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46040" y="495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Ferdi « Lobster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At the end of th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unt your Tournament Points, Control Points and the army points you destroyed in your opponent’s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Write everything down on your Tournament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RING YOUR SHEET BACK TO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8360" y="1989000"/>
            <a:ext cx="8229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Newtext Rg BT"/>
              </a:rPr>
              <a:t>Winning at WM/H does NOT enlarge your peni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…</a:t>
            </a: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and 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asure your distances as precisely as possible (no ruler be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hare information hone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at, rehyd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joy th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ave a good ti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1700280"/>
            <a:ext cx="8325000" cy="496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he Welcom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nu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edule of the week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y display &amp; best painted army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bby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play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7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wtext Rg BT"/>
              </a:rPr>
              <a:t>The Ve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s available to our club for free s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2852640"/>
            <a:ext cx="6400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 no alcohol on the prem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n’t s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n’t « explore » beyond the gaming area, the eating areas and the toi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KEEP THE TOILETS 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wtext Rg BT"/>
              </a:rPr>
              <a:t>Food&amp;dr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verything is availabl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elf-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re’s a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ffee machin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in the kit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resh can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in the f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ot cheese-and-ham sandwiches (« croques ») and hotdogs for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e’ll be making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waff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hroughout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KEEP THE AREA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2276640"/>
            <a:ext cx="8325000" cy="496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he Welcom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nu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edule of the week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y display &amp; best painted army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bby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play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Schedule for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671120"/>
            <a:ext cx="8713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:30 Breakfast &amp;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:00-12:25 First 50-point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2:25-14:00: Lunch break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rmy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4:00-16:25 Second 50-point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6:50-19:15 Third 50-point gam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Schedule for Su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:30 Breakfast &amp;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9:00-10:50 First 35-point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1:10-13:00 Second 35-point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:00-13:50 Lunch break and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3:50-15:40 Third 35-point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6:15-17:00 Award ceremony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2860560"/>
            <a:ext cx="8325000" cy="497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Newtext Rg BT"/>
              </a:rPr>
              <a:t>The Welcome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nu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edule of the week-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y display &amp; best painted army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obby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Your play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630864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6308640"/>
            <a:ext cx="3476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text Rg BT"/>
              </a:rPr>
              <a:t>French Ope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7840" y="6481800"/>
            <a:ext cx="1017720" cy="24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58920" y="6381720"/>
            <a:ext cx="42048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23:05:33Z</dcterms:created>
  <dc:creator>Igor Kazmierski</dc:creator>
  <dc:description/>
  <dc:language>en-US</dc:language>
  <cp:lastModifiedBy>Igor Kazmierski</cp:lastModifiedBy>
  <dcterms:modified xsi:type="dcterms:W3CDTF">2013-06-07T21:02:10Z</dcterms:modified>
  <cp:revision>22</cp:revision>
  <dc:subject/>
  <dc:title>The Venue</dc:title>
</cp:coreProperties>
</file>