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9AE-B338-43B2-BCB9-DC4D04DF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3D1-2B6F-48A6-9DE5-79F98A30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D13-55EE-4239-8CD1-D3732E42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E02-D084-4B35-9BB2-811B7855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FC71-BD28-492C-97A6-895E063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C3C-EB04-4956-84FF-C29126C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4051-80B6-45A7-BDA3-772B5BB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B1C-6664-4913-9D3A-AD86ADD2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DC7-E703-44CD-B05D-0119CEBE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6F7-A1D0-472C-8960-ABC18C07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CBA-4514-4AB6-A7B8-0FF5A3F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2AA-7D52-44BD-9560-C793D2C7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2E1D-96A9-47FD-8C30-0F28421B2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Newtext Rg BT"/>
              </a:rPr>
              <a:t>R.T.S. gaming club &amp; battle-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3860640"/>
            <a:ext cx="396072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ier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765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th: Manu (LoE) 5,23 DAP 1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341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th: Gwen (PoM) 5,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917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th: Gruxxki (Khador) 5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4940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7th: Sechs (LoE) 5,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6040" y="29988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th: Zargar (Cygnar) 5,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6040" y="35751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th: Marcus (LoE/Skorne) 6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149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th: Val (Skorne) 6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To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3rd: Feyall (PoM) 6,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nd: Lucifel888 (Trollbloods) 6,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924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st: Q² (Trollbloods) 8,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Next tourna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Summer Headbutt, Bourgoin (29/30 ju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989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Multichannel, Grenoble (14/15 juil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924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Knock-Out, La Garde (10/11 aoû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3789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Lyon Summer Masters (7/8 septembre 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Final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leave just yet -&gt; group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ake the remaining food&amp;drinks back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rive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ANK YOU ALL AND SEE YOU SO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Blabla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484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+ Polls for the French speaking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(questionnaire de satisfaction pour les França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peci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RTS gaming clu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F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nn-Gaë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&amp; Fran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uper Special 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and F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Painting Tro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0680" y="2923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3rd place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oss (Mercena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0680" y="3932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2nd place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lysXXX (Cry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01156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1st place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cifel888 (Trollblo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484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Many thanks to all the painters for your effort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1484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rnamen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+ Hobby Grid /15 (factor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+ Quiz /20 (factor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+ Control Points /60 (factor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+ SoS /60 (factor 0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ier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765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0th: Froutch (PoM) 1,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341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9th: Darinor (Skorne) 2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162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8th: Khalan (Cygnar) 2,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4940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7th: D (Mercs) 2,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997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6th: Miaaou (Cryx) 2,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573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5th: Kantin (Cryx) 2,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6040" y="41511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4th: ZergSpirit (Cryx) 2,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6040" y="47275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3rd: Pivi (LoE) 2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040" y="5229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2nd: Slaughtron (PoM) 3,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6040" y="5805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1st: N-o-n-o (Khador) 3,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i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765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0th: Alris (Cygnar) 3,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341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9th: Bekanor (Circle) 3,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917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8th: Butier (Skorne) 3,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40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7th: TripleUn (Trollbloods) 3,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6040" y="29988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6th: Aod (Cygnar) 3,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6040" y="35751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5th: Titi (Cygnar) 3,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6040" y="41511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4th: Zorg (LoE) 4,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6040" y="47275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3rd: Fedmahn (PoM) 4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6040" y="5229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nd: Allan255 (LoE/Mercs) 4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6040" y="5805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1st: Roofs (Trollbloods) 4,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i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7650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0th: Naranja (PoM) 4,47 DAP 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9th: Joss (Mercs) 4,47 DAP 1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9177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8th: Wood (PoM) 4,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49408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7th: Schlaf (PoM) 4,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040" y="299880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6th: UlysXXX (Cryx) 4,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6040" y="35751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5th: Spiff (Khador) 4,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6040" y="41511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4th: HudsonH (Skorne) 5,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6040" y="47275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3th: Cryxfactory (RoS) 5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6040" y="522936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th: Helwinter (Khador) 5,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6040" y="5805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1st: Aljamis (Khador) 5,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3:05:33Z</dcterms:created>
  <dc:creator>Igor Kazmierski</dc:creator>
  <dc:description/>
  <dc:language>en-US</dc:language>
  <cp:lastModifiedBy>Igor Kazmierski</cp:lastModifiedBy>
  <dcterms:modified xsi:type="dcterms:W3CDTF">2013-06-09T14:52:51Z</dcterms:modified>
  <cp:revision>34</cp:revision>
  <dc:subject/>
  <dc:title>The Venue</dc:title>
</cp:coreProperties>
</file>